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B247-C67F-4284-B0FA-D985CF9D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4341-9442-4CFF-89A1-194E79C6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9C10-8CE8-4DA2-8141-A806462F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0BC4-3C98-425C-8DD9-D6B9B8BA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117-0DFD-408E-B50A-B0FB1A2C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0F06-A2B4-425B-9893-38D0C8CA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C6EF-A1E5-4924-9F4F-627EFFF7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8F29-E72B-4900-9D07-24498F65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FF78-171E-43F1-B0ED-6831D529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2658-A880-4F55-9650-26E5372B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5562-2230-4156-9750-6DAC5AC7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59CE-E256-430D-A09B-86ECB1DB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37B7-AD00-4BEE-A671-EF9CB2C9F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news.bbc.co.uk/" TargetMode="External"/><Relationship Id="rId2" Type="http://schemas.openxmlformats.org/officeDocument/2006/relationships/hyperlink" Target="http://www.npr.org/" TargetMode="External"/><Relationship Id="rId3" Type="http://schemas.openxmlformats.org/officeDocument/2006/relationships/hyperlink" Target="http://topics.nytimes.com/" TargetMode="External"/><Relationship Id="rId4" Type="http://schemas.openxmlformats.org/officeDocument/2006/relationships/hyperlink" Target="http://londonkoreanlinks.net/" TargetMode="External"/><Relationship Id="rId5" Type="http://schemas.openxmlformats.org/officeDocument/2006/relationships/hyperlink" Target="http://cartoons.nytimages.com/" TargetMode="External"/><Relationship Id="rId6" Type="http://schemas.openxmlformats.org/officeDocument/2006/relationships/hyperlink" Target="http://cartoons.nytimages.com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m Jong-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Kim Jong-il (undated image, released by Korean Central News Agency in August 2008) "/>
          <p:cNvPicPr/>
          <p:nvPr/>
        </p:nvPicPr>
        <p:blipFill>
          <a:blip r:embed="rId1"/>
          <a:stretch/>
        </p:blipFill>
        <p:spPr>
          <a:xfrm>
            <a:off x="152280" y="1828800"/>
            <a:ext cx="3724560" cy="4648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Kim Jong-il"/>
          <p:cNvPicPr/>
          <p:nvPr/>
        </p:nvPicPr>
        <p:blipFill>
          <a:blip r:embed="rId2"/>
          <a:stretch/>
        </p:blipFill>
        <p:spPr>
          <a:xfrm>
            <a:off x="4038480" y="2209680"/>
            <a:ext cx="48769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635040"/>
            <a:ext cx="777240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BC world new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Public Radi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p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Time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topics.nytim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s from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ondonkoreanlinks.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an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artoons.nytimag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ock North Korean Scud-B missile, left, and other South Korean missiles are displayed at Korea War Memorial Muse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1_South_Korea_Koreas_Nuclear.sff.jpg"/>
          <p:cNvPicPr/>
          <p:nvPr/>
        </p:nvPicPr>
        <p:blipFill>
          <a:blip r:embed="rId1"/>
          <a:stretch/>
        </p:blipFill>
        <p:spPr>
          <a:xfrm>
            <a:off x="1447920" y="457200"/>
            <a:ext cx="54864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ock North Korean Scud-B missile, center, and other South Korean missiles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ed at Korea War Memorial Muse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2_South_Korea_Koreas_Nuclear.sff.jpg"/>
          <p:cNvPicPr/>
          <p:nvPr/>
        </p:nvPicPr>
        <p:blipFill>
          <a:blip r:embed="rId1"/>
          <a:stretch/>
        </p:blipFill>
        <p:spPr>
          <a:xfrm>
            <a:off x="2514600" y="228600"/>
            <a:ext cx="3395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rockets North Korea has launched so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486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ral North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34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outh Korean holds banner attached with pictures of North Korean leader Kim Jong Il and North's missiles during a rally held against North Korea's rocket launch in Seoul, South Kore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3_South_Korea_Koreas_Nuclear.sff.jpg"/>
          <p:cNvPicPr/>
          <p:nvPr/>
        </p:nvPicPr>
        <p:blipFill>
          <a:blip r:embed="rId1"/>
          <a:stretch/>
        </p:blipFill>
        <p:spPr>
          <a:xfrm>
            <a:off x="990720" y="533520"/>
            <a:ext cx="662940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 in Seoul, South Korea, protested on Thursday against the North’s scheduled rocket launchin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North Korean soldier on a recent patrol near North Korea’s border with China. The United States is relying on China to persuade the North to rejoin talks over the North’s nuclear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3818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60199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5:15:56Z</dcterms:created>
  <dc:creator>ws12001</dc:creator>
  <dc:description/>
  <dc:language>en-US</dc:language>
  <cp:lastModifiedBy>ws12001</cp:lastModifiedBy>
  <dcterms:modified xsi:type="dcterms:W3CDTF">2009-05-19T16:48:40Z</dcterms:modified>
  <cp:revision>6</cp:revision>
  <dc:subject/>
  <dc:title>Kim Jong-il</dc:title>
</cp:coreProperties>
</file>